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06C-AE4D-4360-8DE0-5E5FB09A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18D-C17F-4FDC-9EF2-21C099C1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E68-4A59-4E26-AF05-88D90121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FCB-857F-430A-9965-C4FF7974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383-3F6E-4AD5-98F2-B1C5A3EF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39EA-C751-4DAC-B928-0083F4D3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5C4-8890-4422-8DEE-D71CE27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16E-4EA2-4255-B816-684684C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C50F-A9C7-498E-B212-2E709254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3CEC-76CC-4601-ABF3-FA89ED3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F107-ABFB-4E49-8442-4879B93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D83-FB84-4520-9243-9375E0DA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F912-611C-4090-B7E6-328F3443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295-F4B8-4B56-8D23-FB0E947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631B-E354-4823-AC20-385A89D7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30A-369D-4123-AA9B-34302314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A7D8-0A92-4388-8785-09636927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41D-6722-4039-AAE6-EEBDD76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8BF-866D-4CF4-91C6-0362253A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D94-E5A1-4BF4-B17E-61C75EE4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B02-DD39-49DF-8875-69C3B16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DFA-A49A-4D65-A8F2-55615A2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F91-C6E3-4CD3-BC9E-9CEE06E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904-3540-4429-A3FD-07AA4AB4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1e8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6F5-C634-4AE3-847D-CC7149DC0087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d1e8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1e8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1e8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CCA-0C7A-4817-AAEF-FB57BC007AA2}" type="slidenum">
              <a:rPr b="0" lang="ro-RO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98100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Diagrama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Know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Wonder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/</a:t>
            </a: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Learn</a:t>
            </a:r>
            <a:r>
              <a:rPr b="1" i="1" lang="ro-RO" sz="4000" spc="-1" strike="noStrike">
                <a:solidFill>
                  <a:srgbClr val="ff0000"/>
                </a:solidFill>
                <a:latin typeface="Arial Black"/>
              </a:rPr>
              <a:t>)</a:t>
            </a:r>
            <a:r>
              <a:rPr b="0" lang="ro-RO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221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Învăţare prin colaborare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wi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2273400"/>
          <a:ext cx="7772400" cy="4108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6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b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7240" y="2266920"/>
          <a:ext cx="7772400" cy="4114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7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7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ite colaborare on-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338560"/>
          <a:ext cx="7772400" cy="4114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17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-aş vrea să şti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e am învăţ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27:15Z</dcterms:created>
  <dc:creator>Adriana</dc:creator>
  <dc:description/>
  <dc:language>en-US</dc:language>
  <cp:lastModifiedBy>Adi</cp:lastModifiedBy>
  <dcterms:modified xsi:type="dcterms:W3CDTF">2008-03-04T19:32:42Z</dcterms:modified>
  <cp:revision>3</cp:revision>
  <dc:subject/>
  <dc:title>Compuşi hidroxilici</dc:title>
</cp:coreProperties>
</file>